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5C11-95D2-4A71-83F2-CDA65BF96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3126-5BEB-4E0D-A618-4DA2BFFED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F998-15DB-4427-820A-0F82E7F96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E4B0-D7C2-4585-A496-5F8C2A038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A5EF-6BF0-4690-8303-8E35635CC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EE38-47E5-418F-89EE-6BA60020C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A289-365B-4C31-ABC2-88762F798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9C71-1304-4CE7-A1C2-B0926E6CC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13E6-B187-4228-80D2-8E58990C1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49FE-FDC7-4CFE-84C8-96BE7C107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8414-EFEC-4BC0-841B-1844308B3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55B1-88EC-40C6-B4B3-A03B04A0B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C743E-EC25-43F2-8190-4FFF1B2D4DD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obetv.co.uk/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Representation of culture/ethnicit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Learning Objective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Build notes on representations of Ethnic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How much do we know about 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Indo-Asian cultur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77724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In the UK we define anyone from what is known as the ‘Indian sub-continent’ as being Asian. In the US, Asians are those from oriental Asia (China, Japan, Korea etc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What nations make up the Indian sub-contine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ndi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Pakistan( which was part of India until 1948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ri Lank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Bangladesh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Discuss: How could you tell the difference between people of these na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Physical dif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loth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Fo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elig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10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10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10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1000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1000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1000"/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1000"/>
                                        <p:tgtEl>
                                          <p:spTgt spid="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" dur="1000"/>
                                        <p:tgtEl>
                                          <p:spTgt spid="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1000"/>
                                        <p:tgtEl>
                                          <p:spTgt spid="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1000"/>
                                        <p:tgtEl>
                                          <p:spTgt spid="7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1000"/>
                                        <p:tgtEl>
                                          <p:spTgt spid="7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ndian sub-continent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10920" y="1483920"/>
            <a:ext cx="80643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n which country is Karachi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What religion is this a symbol of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Which country used to be known as Ceylo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n which country is the cricketer Sachin Tendulkar from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Which UK city has the highest concentration of UK Asia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n which country do they speak Punjabi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rom which country are most of the UK owners of Indian restaurants from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What is a samos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What meat are Muslims forbidden to ea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n Indian weddings what is the dowry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258920" y="2421000"/>
            <a:ext cx="86364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500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500"/>
                                        <p:tgtEl>
                                          <p:spTgt spid="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9" dur="500"/>
                                        <p:tgtEl>
                                          <p:spTgt spid="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500"/>
                                        <p:tgtEl>
                                          <p:spTgt spid="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7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nsw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964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akist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in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ri Lan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eice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anglade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pastry with a veg or meat fil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oney given to the bride’s family from the groom’s fami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1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6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1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" dur="5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1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6" dur="5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1" dur="500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6" dur="500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1" dur="500"/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756108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Ethnic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9640" y="1916280"/>
            <a:ext cx="7772400" cy="44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iscuss these questions with your partn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at is meant by ethnicity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at is the difference between nationality and ethnicit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at is your ethnicit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re people within the same ethnic group the same in all ways? Are their different “types”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Ethnicity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- </a:t>
            </a:r>
            <a:r>
              <a:rPr b="0" i="1" lang="en-US" sz="2400" spc="-1" strike="noStrike">
                <a:solidFill>
                  <a:srgbClr val="000000"/>
                </a:solidFill>
                <a:latin typeface="Trebuchet MS"/>
              </a:rPr>
              <a:t>A cultural distinctiveness based on a number of facto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How is Ethnicity forme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What contributes to a person’s ethnicity? A combination of factor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Colour of ski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Relig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Nationa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Langu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Cultural specifics- food, clothing, custom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Ethnicity is a complex issue – it involves more than just place of birth or colour of sk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What are the main ethnic groups within Londo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Newham has more than 150 languages spoken in it. However language is just one way to breakdown culture as many languages are spoken within one country or cultu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2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2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" dur="2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" dur="20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" dur="20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" dur="2000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1" dur="2000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thnicity and the med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86421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Ethnic Niche markets’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What is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The media providing for a specific ‘niche’ market based 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ethnic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Look at this exampl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cc00cc"/>
                </a:solidFill>
                <a:uFillTx/>
                <a:latin typeface="Times New Roman"/>
                <a:hlinkClick r:id="rId1"/>
              </a:rPr>
              <a:t>OBE TV - YOUR CHANNEL OF CHO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Can you list some other media products/channels that are specifically targeting their audience based on ethnicit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How ethnically diverse is the mainstream British media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Example: 1Xtra is the BBCs attempt at targeting a smaller niche market or is it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1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1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10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1000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1000"/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1000"/>
                                        <p:tgtEl>
                                          <p:spTgt spid="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71640" y="620280"/>
            <a:ext cx="5256000" cy="12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 ‘Apu’ iss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4360" y="2204640"/>
            <a:ext cx="77724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character of Apu in the Simpsons divides opinion particularly amongst the Asian commun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atch this clip and then discuss his representation as an Asian charac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The Simpsons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gets a way with it because it’s an animation and it uses exaggerated stereotypes to create humour (Chief Wiggum and the police, Krusty and Jewish). However the issue is whether non-Asian audiences are laughing at the character's ‘Asianess’ or at the ‘clever’ use of stereotyp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588000" y="333360"/>
            <a:ext cx="158436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0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sians in the med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Asian community in the UK are well represented on television, particularly in broadcast news med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50920" y="3284640"/>
            <a:ext cx="2735280" cy="15382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419640" y="3284640"/>
            <a:ext cx="1758960" cy="2338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6372360" y="2997360"/>
            <a:ext cx="2592360" cy="24955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971640" y="4941720"/>
            <a:ext cx="2004840" cy="17179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4932360" y="4581360"/>
            <a:ext cx="1608120" cy="20685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84360" y="4292640"/>
            <a:ext cx="23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Rajesh Mirchenda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995640" y="292428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George Alagia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843280" y="609300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Martin Bash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616572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Riz Late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443640" y="306864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Krishnan Gurumurth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2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7" dur="2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7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7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8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9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Other Asians in the Med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588000" y="4941720"/>
            <a:ext cx="2232000" cy="14893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324000" y="4508640"/>
            <a:ext cx="1944360" cy="19447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2987640" y="1341360"/>
            <a:ext cx="2879640" cy="2879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468360" y="1268280"/>
            <a:ext cx="1923840" cy="29527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995640" y="6165720"/>
            <a:ext cx="439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40000" y="4508640"/>
            <a:ext cx="3887640" cy="20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Can you name any other Asians in the med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What reasons can you give for there being fewer ‘Asian popstars’or actor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5"/>
          <a:stretch/>
        </p:blipFill>
        <p:spPr>
          <a:xfrm>
            <a:off x="6227640" y="1413000"/>
            <a:ext cx="216540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sians in the media continue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9640" y="2060280"/>
            <a:ext cx="83534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t could be said that Asians are under-represented in other areas of the media notably, film and musi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iscus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at films can you name that feature Asian charact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ow many UK Asian musical artists can you name?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Times New Roman"/>
              </a:rPr>
              <a:t>Asian stereotyp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23640" y="1673280"/>
            <a:ext cx="856908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re some of common Asian stereotyp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Hard working and studi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Business mind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trong sense of family- close k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Good at Maths (and crick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oney/status orient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eligious/mo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rranged marri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assive (except for terrorist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Discuss: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can you name some media examples where these stereotypes are eviden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31T13:07:06Z</dcterms:created>
  <dc:creator>gokul</dc:creator>
  <dc:description/>
  <dc:language>en-US</dc:language>
  <cp:lastModifiedBy>JAlois</cp:lastModifiedBy>
  <dcterms:modified xsi:type="dcterms:W3CDTF">2010-09-17T10:07:16Z</dcterms:modified>
  <cp:revision>31</cp:revision>
  <dc:subject/>
  <dc:title>Representation In Soap Opera</dc:title>
</cp:coreProperties>
</file>